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4.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6.png" ContentType="image/png"/>
  <Override PartName="/ppt/media/image14.png" ContentType="image/png"/>
  <Override PartName="/ppt/media/image3.png" ContentType="image/png"/>
  <Override PartName="/ppt/media/image17.jpeg" ContentType="image/jpe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BE14F-443F-4759-8490-935BCB36C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E0979-9D7C-459E-8B88-FDEE8C46F4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3461-12A0-45C0-A2B4-3AA9549F02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7AA02-99BF-4254-9425-DE57D35C0C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502DB-D939-400A-A9F8-84EB9D45ED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123F0-67ED-4C36-B516-932C733F58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6D4E-17FD-4BD8-B856-8994D9C8C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DDB76-EF7D-4DA2-A42F-EF1DD94958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D6DA-BC95-4778-96E3-A8AD463859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6296-D819-4A1F-AF2D-7CF8658214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E378E-7CD8-4369-84A0-49773FF21D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17F50-0208-48AE-BCF3-D4423315D4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563FF-40FB-4124-B035-1FD0CCE2E1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7DC23-C6C0-4420-8B13-350D93AE7A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5EF6-13A9-413D-A006-FEE403C832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E3B8-10E4-4C7C-BC42-EC69CBEF15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17B44-61AE-4FDD-B26B-60FAA577D2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880B-4FF3-4B62-BC3C-65405BA3A3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52CF3-D2FB-4A07-AB16-CBF120F009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A8982-0979-4F77-A943-A45D3B68C2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02475-CAC7-4135-B82F-A77C13026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A8823-179A-4408-A51F-A5566D4CC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CA14B-C564-4A87-9644-6601FB12E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4552F-15FC-43A1-9FE0-D180DE29D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D3AE96-53A0-41BE-B868-D1BE77E038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2D475-984C-4657-89FE-2F868D182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38F31-EB5F-48B9-8621-58F01F067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D19DC-70C3-499B-8F7B-80DB60A6A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965E1-CF80-4F65-96F0-0CDF0F2D8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3EA03-0C05-4378-A588-FBAF3561D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4C6A7-8CA6-486D-951E-770155836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B4BD5-D61A-4AFE-8CAB-7EBA88974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9122E-8755-40AB-9777-FFA6B0E15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720C9-B335-43B3-A65D-CBA81F78E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D4441-81C4-4448-83D6-D1AC72DBE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E1AC83-1837-445F-B080-EB5BC1D8EA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245262-8E0A-4CA0-81A2-2995E0AC8B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2A007C-42F7-42C3-9175-EEE8B5AFFD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088921-7307-45A9-B883-FB43E071C3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45E484-2A05-440B-B31B-723C0F7EF8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FFA7A6-2A29-4270-8674-D3E8F96D19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766072-D8D4-438B-9C01-428EDC92EB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30609-16A1-457B-B444-B209D66B1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D320C5-FD17-4BDF-B76F-C91326322C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5CF5D1-166B-4305-93EE-C70F3A1468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924A21-FACB-4355-83A5-14C3CDCF59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F2FA60-43EE-4EF2-8397-67094B8E2B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5BDB9B-9E39-4D79-BF6E-59AAED1FD7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7AC58D-9722-4726-A56F-703AB65D42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30F2B0-6625-4085-B4A9-15A7CEBE80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91DB2B-44ED-4289-9330-FCCE480C27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7FC4A1-2FFB-4194-AD43-7F69D696C6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135200-1FC6-4022-AF68-C9E5107ABB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D7BD9-5862-43D7-8350-099DA4B5A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E5FBFB-8D66-419F-9F79-DB8F0B144F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5E6C81-59CA-4FD9-A618-D811D22495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9D75EC-94AB-4CAF-B7BF-40A2612749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4F903D-F4D1-468F-8C4C-F90B29D249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28F36B-30A9-4D4C-9DD5-27C21E9F84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7692E3-0572-4EFA-ACDF-1BEB98512F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357F9E-D7FD-4708-AE22-8FEB5C99DC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13CEA6-345E-460F-93E6-09E4117EC4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A0ED61-C6E9-4C51-A78A-D9414BECED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FEC424-A5EF-4AD2-A05F-649321BF08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0E61F-5FA4-45EF-9AC4-41A16A277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88ED0B-B197-4544-AEF4-7DDAA1642B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7466B1-65D6-40BD-8236-6A2759097D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2F9E3C-369C-4806-9F78-99F4326F96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E88ACC-82E5-43AE-AC92-3AA23C45C4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3C711E-3449-4BBB-A5F9-87F0EFACA4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951E0A-4B01-4E1D-8C61-DE66561309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64678C-8DD6-4F1A-8697-1C038E269B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81D9E5-77E5-4D99-A044-99E1AEBCC2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349F8D-E2C1-43FE-8B0E-C349158C49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E3C7FF-DC4A-49C5-ADD2-49A31FD989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2C258-6177-4D70-878C-AE0805C90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103891-CA9F-4AAB-AFD0-179FA6CB8D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F59F4-BD68-408D-8E1E-DD14592D5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9D84D-1519-4493-83E1-68F4AD4E3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043FA-FE8C-4A81-A517-15B4EBCF0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08741-7CFF-459F-B865-7C6A035E9CF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03582-9A02-4FB2-8B40-3B4E47F20CB6}"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88019-0C82-4044-853B-20C2840E16AC}"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4715-9828-4E89-B41A-D01B6740EB2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56600" cy="648000"/>
              <a:chOff x="-19080" y="203040"/>
              <a:chExt cx="9156600" cy="648000"/>
            </a:xfrm>
          </p:grpSpPr>
          <p:pic>
            <p:nvPicPr>
              <p:cNvPr id="199" name="Freeform 11" descr=""/>
              <p:cNvPicPr/>
              <p:nvPr/>
            </p:nvPicPr>
            <p:blipFill>
              <a:blip r:embed="rId3"/>
              <a:stretch/>
            </p:blipFill>
            <p:spPr>
              <a:xfrm>
                <a:off x="3960" y="203040"/>
                <a:ext cx="913356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685800" y="6248520"/>
            <a:ext cx="19051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4"/>
          <p:cNvSpPr>
            <a:spLocks noGrp="1"/>
          </p:cNvSpPr>
          <p:nvPr>
            <p:ph type="ftr" idx="14"/>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5"/>
          <p:cNvSpPr>
            <a:spLocks noGrp="1"/>
          </p:cNvSpPr>
          <p:nvPr>
            <p:ph type="sldNum" idx="15"/>
          </p:nvPr>
        </p:nvSpPr>
        <p:spPr>
          <a:xfrm>
            <a:off x="6553080" y="6248520"/>
            <a:ext cx="1905120" cy="4572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6B9AA-74DB-4BD3-9104-949D304833A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mputer Login Information</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rname: tmp_dcam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ssword: LetsTalk2012</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ltra-Advanced Research Tip</a:t>
            </a:r>
            <a:endParaRPr b="0" lang="en-US" sz="5000" spc="-1" strike="noStrike">
              <a:solidFill>
                <a:srgbClr val="04617b"/>
              </a:solidFill>
              <a:latin typeface="Calibri"/>
            </a:endParaRPr>
          </a:p>
        </p:txBody>
      </p:sp>
      <p:pic>
        <p:nvPicPr>
          <p:cNvPr id="275" name="Picture 3" descr=""/>
          <p:cNvPicPr/>
          <p:nvPr/>
        </p:nvPicPr>
        <p:blipFill>
          <a:blip r:embed="rId1"/>
          <a:stretch/>
        </p:blipFill>
        <p:spPr>
          <a:xfrm>
            <a:off x="1066680" y="1981080"/>
            <a:ext cx="7286760" cy="38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Not to Research</a:t>
            </a:r>
            <a:endParaRPr b="0" lang="en-US" sz="5000" spc="-1" strike="noStrike">
              <a:solidFill>
                <a:srgbClr val="04617b"/>
              </a:solidFill>
              <a:latin typeface="Calibri"/>
            </a:endParaRPr>
          </a:p>
        </p:txBody>
      </p:sp>
      <p:sp>
        <p:nvSpPr>
          <p:cNvPr id="277" name=""/>
          <p:cNvSpPr txBox="1"/>
          <p:nvPr/>
        </p:nvSpPr>
        <p:spPr>
          <a:xfrm>
            <a:off x="457200" y="1934640"/>
            <a:ext cx="3657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High speed rail” and “nuclear war”</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gnoring opposing evidence</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illion cards, one argument</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bate search terms (key, solves, etc)</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ruth</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½ a file</a:t>
            </a:r>
            <a:endParaRPr b="0" lang="en-US" sz="2600" spc="-1" strike="noStrike">
              <a:solidFill>
                <a:srgbClr val="000000"/>
              </a:solidFill>
              <a:latin typeface="Constantia"/>
            </a:endParaRPr>
          </a:p>
        </p:txBody>
      </p:sp>
      <p:pic>
        <p:nvPicPr>
          <p:cNvPr id="278" name="Picture 2" descr=""/>
          <p:cNvPicPr/>
          <p:nvPr/>
        </p:nvPicPr>
        <p:blipFill>
          <a:blip r:embed="rId1"/>
          <a:stretch/>
        </p:blipFill>
        <p:spPr>
          <a:xfrm>
            <a:off x="4343400" y="2057400"/>
            <a:ext cx="4152960" cy="3086280"/>
          </a:xfrm>
          <a:prstGeom prst="rect">
            <a:avLst/>
          </a:prstGeom>
          <a:ln w="0">
            <a:noFill/>
          </a:ln>
        </p:spPr>
      </p:pic>
      <p:sp>
        <p:nvSpPr>
          <p:cNvPr id="279" name="TextBox 3"/>
          <p:cNvSpPr/>
          <p:nvPr/>
        </p:nvSpPr>
        <p:spPr>
          <a:xfrm>
            <a:off x="4572000" y="5143680"/>
            <a:ext cx="3924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be this aff doesn’t cause nuclear w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3" descr=""/>
          <p:cNvPicPr/>
          <p:nvPr/>
        </p:nvPicPr>
        <p:blipFill>
          <a:blip r:embed="rId1"/>
          <a:stretch/>
        </p:blipFill>
        <p:spPr>
          <a:xfrm>
            <a:off x="450720" y="920880"/>
            <a:ext cx="7851960" cy="1908000"/>
          </a:xfrm>
          <a:prstGeom prst="rect">
            <a:avLst/>
          </a:prstGeom>
          <a:ln w="0">
            <a:noFill/>
          </a:ln>
        </p:spPr>
      </p:pic>
      <p:sp>
        <p:nvSpPr>
          <p:cNvPr id="281"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utting an Affirmative</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rt with solvency mechanism, not harms 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s the tric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gle against common neg argument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ig stick (impact) aff</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mall (link) aff</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quirrelly aff</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ritik aff</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84" name="Picture 2" descr=""/>
          <p:cNvPicPr/>
          <p:nvPr/>
        </p:nvPicPr>
        <p:blipFill>
          <a:blip r:embed="rId1"/>
          <a:stretch/>
        </p:blipFill>
        <p:spPr>
          <a:xfrm>
            <a:off x="4876920" y="3564000"/>
            <a:ext cx="2414520" cy="2716200"/>
          </a:xfrm>
          <a:prstGeom prst="rect">
            <a:avLst/>
          </a:prstGeom>
          <a:ln w="0">
            <a:noFill/>
          </a:ln>
        </p:spPr>
      </p:pic>
      <p:sp>
        <p:nvSpPr>
          <p:cNvPr id="285" name="TextBox 3"/>
          <p:cNvSpPr/>
          <p:nvPr/>
        </p:nvSpPr>
        <p:spPr>
          <a:xfrm>
            <a:off x="5334120" y="6280200"/>
            <a:ext cx="195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ic squirrely af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utting a Disadvantage</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rt with the link</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neral topic link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ecific link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iqueness comes las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act diversit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acts that outweigh the aff</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acts that turn the aff</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utting a Case neg</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rt with the 1A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unterplans and other solvency mechanis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s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verything is fine</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mpact defens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quo solves</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ff is irrelevant</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olvency</a:t>
            </a:r>
            <a:endParaRPr b="0" lang="en-US" sz="21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advantage link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Title 3" descr=""/>
          <p:cNvPicPr/>
          <p:nvPr/>
        </p:nvPicPr>
        <p:blipFill>
          <a:blip r:embed="rId1"/>
          <a:stretch/>
        </p:blipFill>
        <p:spPr>
          <a:xfrm>
            <a:off x="73080" y="920880"/>
            <a:ext cx="8845560" cy="1908000"/>
          </a:xfrm>
          <a:prstGeom prst="rect">
            <a:avLst/>
          </a:prstGeom>
          <a:ln w="0">
            <a:noFill/>
          </a:ln>
        </p:spPr>
      </p:pic>
      <p:sp>
        <p:nvSpPr>
          <p:cNvPr id="291"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92" name="Picture 5" descr=""/>
          <p:cNvPicPr/>
          <p:nvPr/>
        </p:nvPicPr>
        <p:blipFill>
          <a:blip r:embed="rId2"/>
          <a:stretch/>
        </p:blipFill>
        <p:spPr>
          <a:xfrm>
            <a:off x="2590920" y="3048120"/>
            <a:ext cx="3213000" cy="353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ernets Shortcuts</a:t>
            </a:r>
            <a:endParaRPr b="0" lang="en-US" sz="50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w tab – Ctrl+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w window – Ctrl+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pen in new window - Middle click/Ctrl+Clic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ve to next window - Ctrl+Tab</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ve to last window - Ctrl+Shift+Tab</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ose tab - Ctrl+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lect URL - F6 (Command-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oogle Tricks</a:t>
            </a:r>
            <a:endParaRPr b="0" lang="en-US" sz="5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act phrase search - “X and 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clude a word - -quer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ynonyms - ~quer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bsite restriction – site:google.co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ildcard – “a * saved is a * earn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ound – query AROUND (4) quer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letype – filetype:pdf</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urces</a:t>
            </a:r>
            <a:endParaRPr b="0" lang="en-US" sz="5000" spc="-1" strike="noStrike">
              <a:solidFill>
                <a:srgbClr val="04617b"/>
              </a:solidFill>
              <a:latin typeface="Calibri"/>
            </a:endParaRPr>
          </a:p>
        </p:txBody>
      </p:sp>
      <p:pic>
        <p:nvPicPr>
          <p:cNvPr id="298" name="Rectangle 3" descr=""/>
          <p:cNvPicPr/>
          <p:nvPr/>
        </p:nvPicPr>
        <p:blipFill>
          <a:blip r:embed="rId1"/>
          <a:stretch/>
        </p:blipFill>
        <p:spPr>
          <a:xfrm>
            <a:off x="457200" y="1932120"/>
            <a:ext cx="8229600" cy="439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530280" y="1371600"/>
            <a:ext cx="7918560" cy="1974960"/>
          </a:xfrm>
          <a:prstGeom prst="rect">
            <a:avLst/>
          </a:prstGeom>
          <a:ln w="0">
            <a:noFill/>
          </a:ln>
        </p:spPr>
      </p:pic>
      <p:sp>
        <p:nvSpPr>
          <p:cNvPr id="255"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lejandres Gannon, UC Berkeley</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opic specific sources</a:t>
            </a:r>
            <a:endParaRPr b="0" lang="en-US" sz="50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no Center for Transport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lanetiz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AND Infrastructure and Transport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Transportation Polit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Heritage Foundation Transport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ransportation Exper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ransportation Research Boar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3" descr=""/>
          <p:cNvPicPr/>
          <p:nvPr/>
        </p:nvPicPr>
        <p:blipFill>
          <a:blip r:embed="rId1"/>
          <a:stretch/>
        </p:blipFill>
        <p:spPr>
          <a:xfrm>
            <a:off x="450720" y="1316160"/>
            <a:ext cx="7851960" cy="1512720"/>
          </a:xfrm>
          <a:prstGeom prst="rect">
            <a:avLst/>
          </a:prstGeom>
          <a:ln w="0">
            <a:noFill/>
          </a:ln>
        </p:spPr>
      </p:pic>
      <p:sp>
        <p:nvSpPr>
          <p:cNvPr id="302"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s processing?</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final product of researc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you aim to arrive at when you take articles from the internet and convert them into evidence card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70452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ings to Have When Processing</a:t>
            </a:r>
            <a:endParaRPr b="0" lang="en-US" sz="50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a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i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s a Tag?</a:t>
            </a:r>
            <a:endParaRPr b="0" lang="en-US" sz="50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hort summary of the argument your card mak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y have a ta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vey your argumen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lowabilit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should be included in a ta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aim – argument the card mak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rrant – why that argument is true</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ood tag, bad tag!</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lves oil dependenc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aff is the apotheosis of the capitalist death machine which threatens to be, for the first time in the age of humanity, that which brings upon us our imminent doom in the fiery splash of the decadence of greed and filth</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arming is real and anthropogenic – models and scientific consensus are on our sid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s a Cite?</a:t>
            </a:r>
            <a:endParaRPr b="0" lang="en-US" sz="5000" spc="-1" strike="noStrike">
              <a:solidFill>
                <a:srgbClr val="04617b"/>
              </a:solidFill>
              <a:latin typeface="Calibri"/>
            </a:endParaRPr>
          </a:p>
        </p:txBody>
      </p:sp>
      <p:sp>
        <p:nvSpPr>
          <p:cNvPr id="3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y have a ci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to include in a cit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uthor nam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uthor qualifica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e publish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ticle nam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urce (Newspaper, Journal name, etc)</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RL/Database foun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1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12">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12">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12">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12">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12">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12">
                                            <p:txEl>
                                              <p:pRg st="6" end="6"/>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1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ood cite!</a:t>
            </a:r>
            <a:endParaRPr b="0" lang="en-US" sz="5000" spc="-1" strike="noStrike">
              <a:solidFill>
                <a:srgbClr val="04617b"/>
              </a:solidFill>
              <a:latin typeface="Calibri"/>
            </a:endParaRPr>
          </a:p>
        </p:txBody>
      </p:sp>
      <p:sp>
        <p:nvSpPr>
          <p:cNvPr id="314"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Langford</a:t>
            </a:r>
            <a:r>
              <a:rPr b="0" lang="en-US" sz="2600" spc="-1" strike="noStrike">
                <a:solidFill>
                  <a:srgbClr val="000000"/>
                </a:solidFill>
                <a:latin typeface="Constantia"/>
              </a:rPr>
              <a:t>, Lieutenant Colonel US Army, ‘</a:t>
            </a:r>
            <a:r>
              <a:rPr b="1" lang="en-US" sz="2600" spc="-1" strike="noStrike">
                <a:solidFill>
                  <a:srgbClr val="000000"/>
                </a:solidFill>
                <a:latin typeface="Constantia"/>
              </a:rPr>
              <a:t>4</a:t>
            </a:r>
            <a:r>
              <a:rPr b="0" lang="en-US" sz="2600" spc="-1" strike="noStrike">
                <a:solidFill>
                  <a:srgbClr val="000000"/>
                </a:solidFill>
                <a:latin typeface="Constantia"/>
              </a:rPr>
              <a:t> (Gary, May 3, “Power Projection Platforms: An Essential Element of Future National Security Strategy” US Army War College, http://www.dtic.mil/cgi-bin/GetTRDoc?AD=ADA423647)</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s a card?</a:t>
            </a:r>
            <a:endParaRPr b="0" lang="en-US" sz="5000" spc="-1" strike="noStrike">
              <a:solidFill>
                <a:srgbClr val="04617b"/>
              </a:solidFill>
              <a:latin typeface="Calibri"/>
            </a:endParaRPr>
          </a:p>
        </p:txBody>
      </p:sp>
      <p:sp>
        <p:nvSpPr>
          <p:cNvPr id="3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to do:</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lude the entire text of what you’re us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n’t cut off paragraph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line wel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inal Product</a:t>
            </a:r>
            <a:endParaRPr b="0" lang="en-US" sz="5000" spc="-1" strike="noStrike">
              <a:solidFill>
                <a:srgbClr val="04617b"/>
              </a:solidFill>
              <a:latin typeface="Calibri"/>
            </a:endParaRPr>
          </a:p>
        </p:txBody>
      </p:sp>
      <p:pic>
        <p:nvPicPr>
          <p:cNvPr id="318" name="Picture 2" descr=""/>
          <p:cNvPicPr/>
          <p:nvPr/>
        </p:nvPicPr>
        <p:blipFill>
          <a:blip r:embed="rId1"/>
          <a:stretch/>
        </p:blipFill>
        <p:spPr>
          <a:xfrm>
            <a:off x="609480" y="1981080"/>
            <a:ext cx="7848720" cy="434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3" descr=""/>
          <p:cNvPicPr/>
          <p:nvPr/>
        </p:nvPicPr>
        <p:blipFill>
          <a:blip r:embed="rId1"/>
          <a:stretch/>
        </p:blipFill>
        <p:spPr>
          <a:xfrm>
            <a:off x="450720" y="920880"/>
            <a:ext cx="7851960" cy="1908000"/>
          </a:xfrm>
          <a:prstGeom prst="rect">
            <a:avLst/>
          </a:prstGeom>
          <a:ln w="0">
            <a:noFill/>
          </a:ln>
        </p:spPr>
      </p:pic>
      <p:pic>
        <p:nvPicPr>
          <p:cNvPr id="257" name="Picture 1" descr=""/>
          <p:cNvPicPr/>
          <p:nvPr/>
        </p:nvPicPr>
        <p:blipFill>
          <a:blip r:embed="rId2"/>
          <a:stretch/>
        </p:blipFill>
        <p:spPr>
          <a:xfrm>
            <a:off x="4114800" y="1981080"/>
            <a:ext cx="2692440" cy="4038840"/>
          </a:xfrm>
          <a:prstGeom prst="rect">
            <a:avLst/>
          </a:prstGeom>
          <a:ln w="0">
            <a:noFill/>
          </a:ln>
        </p:spPr>
      </p:pic>
      <p:sp>
        <p:nvSpPr>
          <p:cNvPr id="258" name="TextBox 2"/>
          <p:cNvSpPr/>
          <p:nvPr/>
        </p:nvSpPr>
        <p:spPr>
          <a:xfrm>
            <a:off x="4191120" y="6019920"/>
            <a:ext cx="26161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cut my first c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3" descr=""/>
          <p:cNvPicPr/>
          <p:nvPr/>
        </p:nvPicPr>
        <p:blipFill>
          <a:blip r:embed="rId1"/>
          <a:stretch/>
        </p:blipFill>
        <p:spPr>
          <a:xfrm>
            <a:off x="450720" y="1316160"/>
            <a:ext cx="7851960" cy="1512720"/>
          </a:xfrm>
          <a:prstGeom prst="rect">
            <a:avLst/>
          </a:prstGeom>
          <a:ln w="0">
            <a:noFill/>
          </a:ln>
        </p:spPr>
      </p:pic>
      <p:sp>
        <p:nvSpPr>
          <p:cNvPr id="320"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erbatim</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perlessdebate.com</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quirements</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C – Office 2010</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c – Office 2011</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ord Ribbon</a:t>
            </a:r>
            <a:endParaRPr b="0" lang="en-US" sz="5000" spc="-1" strike="noStrike">
              <a:solidFill>
                <a:srgbClr val="04617b"/>
              </a:solidFill>
              <a:latin typeface="Calibri"/>
            </a:endParaRPr>
          </a:p>
        </p:txBody>
      </p:sp>
      <p:pic>
        <p:nvPicPr>
          <p:cNvPr id="324" name="Picture 2" descr=""/>
          <p:cNvPicPr/>
          <p:nvPr/>
        </p:nvPicPr>
        <p:blipFill>
          <a:blip r:embed="rId1"/>
          <a:stretch/>
        </p:blipFill>
        <p:spPr>
          <a:xfrm>
            <a:off x="304920" y="2362320"/>
            <a:ext cx="8575560" cy="18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3" descr=""/>
          <p:cNvPicPr/>
          <p:nvPr/>
        </p:nvPicPr>
        <p:blipFill>
          <a:blip r:embed="rId1"/>
          <a:stretch/>
        </p:blipFill>
        <p:spPr>
          <a:xfrm>
            <a:off x="73080" y="804960"/>
            <a:ext cx="8845560" cy="2760480"/>
          </a:xfrm>
          <a:prstGeom prst="rect">
            <a:avLst/>
          </a:prstGeom>
          <a:ln w="0">
            <a:noFill/>
          </a:ln>
        </p:spPr>
      </p:pic>
      <p:pic>
        <p:nvPicPr>
          <p:cNvPr id="326" name="Picture 5" descr=""/>
          <p:cNvPicPr/>
          <p:nvPr/>
        </p:nvPicPr>
        <p:blipFill>
          <a:blip r:embed="rId2"/>
          <a:stretch/>
        </p:blipFill>
        <p:spPr>
          <a:xfrm>
            <a:off x="2590920" y="3048120"/>
            <a:ext cx="3213000" cy="3533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ocessing fast hands</a:t>
            </a:r>
            <a:endParaRPr b="0" lang="en-US" sz="5000" spc="-1" strike="noStrike">
              <a:solidFill>
                <a:srgbClr val="04617b"/>
              </a:solidFill>
              <a:latin typeface="Calibri"/>
            </a:endParaRPr>
          </a:p>
        </p:txBody>
      </p:sp>
      <p:sp>
        <p:nvSpPr>
          <p:cNvPr id="3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py - Ctrl-C (Command-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ste - Ctrl-V (Command-V)</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ut - Ctrl-X (Command-X)</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do - Ctrl-Z (Command-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do - Ctrl-Y (Command-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lect all - Ctrl-A (Command-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witch windows – Alt+Tab (4-finger swipe/F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lect paragraph - Ctrl+Shift+Arrow Up/Dow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lect word - Ctrl+Shift+Arrow Left/Righ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urces</a:t>
            </a:r>
            <a:endParaRPr b="0" lang="en-US" sz="5000" spc="-1" strike="noStrike">
              <a:solidFill>
                <a:srgbClr val="04617b"/>
              </a:solidFill>
              <a:latin typeface="Calibri"/>
            </a:endParaRPr>
          </a:p>
        </p:txBody>
      </p:sp>
      <p:pic>
        <p:nvPicPr>
          <p:cNvPr id="330" name="Rectangle 3" descr=""/>
          <p:cNvPicPr/>
          <p:nvPr/>
        </p:nvPicPr>
        <p:blipFill>
          <a:blip r:embed="rId1"/>
          <a:stretch/>
        </p:blipFill>
        <p:spPr>
          <a:xfrm>
            <a:off x="457200" y="1932120"/>
            <a:ext cx="8229600" cy="4395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oogle Tricks</a:t>
            </a:r>
            <a:endParaRPr b="0" lang="en-US" sz="5000" spc="-1" strike="noStrike">
              <a:solidFill>
                <a:srgbClr val="04617b"/>
              </a:solidFill>
              <a:latin typeface="Calibri"/>
            </a:endParaRPr>
          </a:p>
        </p:txBody>
      </p:sp>
      <p:sp>
        <p:nvSpPr>
          <p:cNvPr id="3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act phrase search - “X and 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clude a word - -quer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ynonyms - ~quer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bsite restriction – site:google.co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ildcard – “a * saved is a * earn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ound – query AROUND (4) quer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letype – filetype:pdf</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xis</a:t>
            </a:r>
            <a:endParaRPr b="0" lang="en-US" sz="5000" spc="-1" strike="noStrike">
              <a:solidFill>
                <a:srgbClr val="04617b"/>
              </a:solidFill>
              <a:latin typeface="Calibri"/>
            </a:endParaRPr>
          </a:p>
        </p:txBody>
      </p:sp>
      <p:sp>
        <p:nvSpPr>
          <p:cNvPr id="334"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ithin</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ords - w/#  (eg. obama w/25 political capital)</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agraph – w/p</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ntence – w/s</a:t>
            </a:r>
            <a:endParaRPr b="0" lang="en-US" sz="24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ildcards</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 wom*n</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 transport!</a:t>
            </a:r>
            <a:endParaRPr b="0" lang="en-US" sz="24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least#(word) - atleast25(transportation)</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R, AN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opic specific sources</a:t>
            </a:r>
            <a:endParaRPr b="0" lang="en-US" sz="5000" spc="-1" strike="noStrike">
              <a:solidFill>
                <a:srgbClr val="04617b"/>
              </a:solidFill>
              <a:latin typeface="Calibri"/>
            </a:endParaRPr>
          </a:p>
        </p:txBody>
      </p:sp>
      <p:sp>
        <p:nvSpPr>
          <p:cNvPr id="33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no Center for Transport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lanetiz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AND Infrastructure and Transport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Transportation Polit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Heritage Foundation Transport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ransportation Exper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ransportation Research Boar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3" descr=""/>
          <p:cNvPicPr/>
          <p:nvPr/>
        </p:nvPicPr>
        <p:blipFill>
          <a:blip r:embed="rId1"/>
          <a:stretch/>
        </p:blipFill>
        <p:spPr>
          <a:xfrm>
            <a:off x="450720" y="1316160"/>
            <a:ext cx="7851960" cy="1512720"/>
          </a:xfrm>
          <a:prstGeom prst="rect">
            <a:avLst/>
          </a:prstGeom>
          <a:ln w="0">
            <a:noFill/>
          </a:ln>
        </p:spPr>
      </p:pic>
      <p:sp>
        <p:nvSpPr>
          <p:cNvPr id="338"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ood Debaters</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persuasively convince the judge their argument is better than their opponents argumen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liver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tent</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earching is about producing the best possible content you can for a debat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ind it!</a:t>
            </a:r>
            <a:endParaRPr b="0" lang="en-US" sz="5000" spc="-1" strike="noStrike">
              <a:solidFill>
                <a:srgbClr val="04617b"/>
              </a:solidFill>
              <a:latin typeface="Calibri"/>
            </a:endParaRPr>
          </a:p>
        </p:txBody>
      </p:sp>
      <p:sp>
        <p:nvSpPr>
          <p:cNvPr id="340" name=""/>
          <p:cNvSpPr txBox="1"/>
          <p:nvPr/>
        </p:nvSpPr>
        <p:spPr>
          <a:xfrm>
            <a:off x="228240" y="1934640"/>
            <a:ext cx="84582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Oil Dependence Threatens Economic Stability” Feb, 2011</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eps</a:t>
            </a:r>
            <a:endParaRPr b="0" lang="en-US" sz="2600" spc="-1" strike="noStrike">
              <a:solidFill>
                <a:srgbClr val="000000"/>
              </a:solidFill>
              <a:latin typeface="Constantia"/>
            </a:endParaRPr>
          </a:p>
          <a:p>
            <a:pPr>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ogle it</a:t>
            </a:r>
            <a:endParaRPr b="0" lang="en-US" sz="2600" spc="-1" strike="noStrike">
              <a:solidFill>
                <a:srgbClr val="000000"/>
              </a:solidFill>
              <a:latin typeface="Constantia"/>
            </a:endParaRPr>
          </a:p>
          <a:p>
            <a:pPr>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py and paste the article into Word/Verbatim</a:t>
            </a:r>
            <a:endParaRPr b="0" lang="en-US" sz="2600" spc="-1" strike="noStrike">
              <a:solidFill>
                <a:srgbClr val="000000"/>
              </a:solidFill>
              <a:latin typeface="Constantia"/>
            </a:endParaRPr>
          </a:p>
          <a:p>
            <a:pPr>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nstantia"/>
              </a:rPr>
              <a:t>Underline</a:t>
            </a:r>
            <a:r>
              <a:rPr b="0" lang="en-US" sz="2600" spc="-1" strike="noStrike">
                <a:solidFill>
                  <a:srgbClr val="000000"/>
                </a:solidFill>
                <a:latin typeface="Constantia"/>
              </a:rPr>
              <a:t> the card</a:t>
            </a:r>
            <a:endParaRPr b="0" lang="en-US" sz="2600" spc="-1" strike="noStrike">
              <a:solidFill>
                <a:srgbClr val="000000"/>
              </a:solidFill>
              <a:latin typeface="Constantia"/>
            </a:endParaRPr>
          </a:p>
          <a:p>
            <a:pPr>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ive the card a </a:t>
            </a:r>
            <a:r>
              <a:rPr b="0" lang="en-US" sz="2600" spc="-1" strike="noStrike" u="sng">
                <a:solidFill>
                  <a:srgbClr val="000000"/>
                </a:solidFill>
                <a:uFillTx/>
                <a:latin typeface="Constantia"/>
              </a:rPr>
              <a:t>tag</a:t>
            </a:r>
            <a:endParaRPr b="0" lang="en-US" sz="2600" spc="-1" strike="noStrike">
              <a:solidFill>
                <a:srgbClr val="000000"/>
              </a:solidFill>
              <a:latin typeface="Constantia"/>
            </a:endParaRPr>
          </a:p>
          <a:p>
            <a:pPr>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ive the card a </a:t>
            </a:r>
            <a:r>
              <a:rPr b="0" lang="en-US" sz="2600" spc="-1" strike="noStrike" u="sng">
                <a:solidFill>
                  <a:srgbClr val="000000"/>
                </a:solidFill>
                <a:uFillTx/>
                <a:latin typeface="Constantia"/>
              </a:rPr>
              <a:t>cit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y Research?</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search wins deba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search is fu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search gets creative</a:t>
            </a:r>
            <a:endParaRPr b="0" lang="en-US" sz="2600" spc="-1" strike="noStrike">
              <a:solidFill>
                <a:srgbClr val="000000"/>
              </a:solidFill>
              <a:latin typeface="Constantia"/>
            </a:endParaRPr>
          </a:p>
        </p:txBody>
      </p:sp>
      <p:pic>
        <p:nvPicPr>
          <p:cNvPr id="263" name="Picture 1" descr=""/>
          <p:cNvPicPr/>
          <p:nvPr/>
        </p:nvPicPr>
        <p:blipFill>
          <a:blip r:embed="rId1"/>
          <a:stretch/>
        </p:blipFill>
        <p:spPr>
          <a:xfrm>
            <a:off x="4267080" y="2590920"/>
            <a:ext cx="3067200" cy="3429000"/>
          </a:xfrm>
          <a:prstGeom prst="rect">
            <a:avLst/>
          </a:prstGeom>
          <a:ln w="0">
            <a:noFill/>
          </a:ln>
        </p:spPr>
      </p:pic>
      <p:sp>
        <p:nvSpPr>
          <p:cNvPr id="264" name="TextBox 2"/>
          <p:cNvSpPr/>
          <p:nvPr/>
        </p:nvSpPr>
        <p:spPr>
          <a:xfrm>
            <a:off x="3600360" y="6019920"/>
            <a:ext cx="3733920" cy="261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st one more card mom, promis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le 3" descr=""/>
          <p:cNvPicPr/>
          <p:nvPr/>
        </p:nvPicPr>
        <p:blipFill>
          <a:blip r:embed="rId1"/>
          <a:stretch/>
        </p:blipFill>
        <p:spPr>
          <a:xfrm>
            <a:off x="450720" y="920880"/>
            <a:ext cx="7851960" cy="1908000"/>
          </a:xfrm>
          <a:prstGeom prst="rect">
            <a:avLst/>
          </a:prstGeom>
          <a:ln w="0">
            <a:noFill/>
          </a:ln>
        </p:spPr>
      </p:pic>
      <p:sp>
        <p:nvSpPr>
          <p:cNvPr id="266"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to Research</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search should produce arguments that you can read in a deba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form do these argument tak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I organize argume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am I looking fo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I get from a google search to a completed fil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Research Tips</a:t>
            </a:r>
            <a:endParaRPr b="0" lang="en-US" sz="50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 scientific formula for how to researc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rt with broad searches to investigate where the literature is going</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ermediate Research Tips</a:t>
            </a:r>
            <a:endParaRPr b="0" lang="en-US" sz="5000" spc="-1" strike="noStrike">
              <a:solidFill>
                <a:srgbClr val="04617b"/>
              </a:solidFill>
              <a:latin typeface="Calibri"/>
            </a:endParaRPr>
          </a:p>
        </p:txBody>
      </p:sp>
      <p:pic>
        <p:nvPicPr>
          <p:cNvPr id="272" name="Picture 3" descr=""/>
          <p:cNvPicPr/>
          <p:nvPr/>
        </p:nvPicPr>
        <p:blipFill>
          <a:blip r:embed="rId1"/>
          <a:stretch/>
        </p:blipFill>
        <p:spPr>
          <a:xfrm>
            <a:off x="228600" y="1981080"/>
            <a:ext cx="3809880" cy="4114800"/>
          </a:xfrm>
          <a:prstGeom prst="rect">
            <a:avLst/>
          </a:prstGeom>
          <a:ln w="0">
            <a:noFill/>
          </a:ln>
        </p:spPr>
      </p:pic>
      <p:sp>
        <p:nvSpPr>
          <p:cNvPr id="273" name="PlaceHolder 2"/>
          <p:cNvSpPr>
            <a:spLocks noGrp="1"/>
          </p:cNvSpPr>
          <p:nvPr>
            <p:ph/>
          </p:nvPr>
        </p:nvSpPr>
        <p:spPr>
          <a:xfrm>
            <a:off x="4267080" y="1981080"/>
            <a:ext cx="4648320" cy="411480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t>
            </a:r>
            <a:r>
              <a:rPr b="0" lang="en-US" sz="2800" spc="-1" strike="noStrike">
                <a:solidFill>
                  <a:srgbClr val="000000"/>
                </a:solidFill>
                <a:latin typeface="Constantia"/>
              </a:rPr>
              <a:t>Finance Reform Will Pas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icking the Right Languag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llowing the Lit</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otnot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2T06:43:27Z</dcterms:created>
  <dc:creator>Andres</dc:creator>
  <dc:description/>
  <dc:language>en-US</dc:language>
  <cp:lastModifiedBy>The Adams Family</cp:lastModifiedBy>
  <dcterms:modified xsi:type="dcterms:W3CDTF">2012-08-29T13:16:12Z</dcterms:modified>
  <cp:revision>12</cp:revision>
  <dc:subject/>
  <dc:title>Research Lecture</dc:title>
</cp:coreProperties>
</file>